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1373-C29A-4BBC-A938-F91786AD061F}" type="slidenum">
              <a:rPr b="0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stimmte Aspekte bleiben unberücksichtigt, Minimalwerte unk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ny Ab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1CCE-F0DD-4A7B-8003-623EF7C2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47920" y="3974760"/>
            <a:ext cx="76197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7763-8F1E-4F41-A0B3-B643B918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47920" y="397476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52120" y="397476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7AE7-6BB1-46E1-A504-DDA9DC5C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02444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0096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4792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02444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0096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0481-58CE-4E80-A398-99FED3FE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F520-407D-4C95-BCB7-7411F2CF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FC10-F08D-497D-9522-55675993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D4A6-5BC7-4973-8E9B-BEF16537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2933-F94F-4A7F-8981-006D3BBD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EF65-BBF1-4287-98D0-E90A0BAA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B133-39E5-4023-9E29-3198BA7E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920" y="397476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0004-B4D4-4585-AAAD-6E9571AB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7487-6966-4A68-BFF1-316E1860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52120" y="397476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E056-21BC-4433-B5D2-285C07C1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920" y="3974760"/>
            <a:ext cx="76197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A92A-8B21-4C74-8BB6-33FF1434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47920" y="3974760"/>
            <a:ext cx="76197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2446-D7B3-4AE3-9DF5-0F4142AB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47920" y="397476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52120" y="397476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96A0-C1BD-4A88-ABB2-A5CE12B2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02444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00960" y="190512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4792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02444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00960" y="3974760"/>
            <a:ext cx="24534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1769-09A9-4CEB-8343-F3E10644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82F2-ED49-4EF8-A0A1-1F62E034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BCFB-7E44-4489-AA1F-2A79EFD2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1291-71BA-4CD9-A3E0-C2465B61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BA07-D26D-4A6C-B032-CB0AF5B0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397476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E0C3-0D5B-405E-B326-2B92E209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52120" y="397476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ABF9-74DE-4D54-864C-36206CC6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52120" y="1905120"/>
            <a:ext cx="371808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920" y="3974760"/>
            <a:ext cx="76197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34EB-C3A7-4C4B-B076-663E0873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91120" y="5791320"/>
          <a:ext cx="12189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5791320"/>
                    <a:ext cx="12189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8cfe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cfe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799"/>
              </a:spcBef>
              <a:buClr>
                <a:srgbClr val="8cfe0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73520" indent="-2178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73520" indent="-2178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73520" indent="-2178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Arbeitsgruppe Funk-Netzwer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4541-12CA-4D24-A9E9-34537186B3A9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1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5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8cfe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cfe0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DFC9-8E88-47D8-9D75-AFA8D9E172BD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rbeitsgruppe Funk-Netzwerk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 rot="19800000">
            <a:off x="2133360" y="350496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9800000">
            <a:off x="1921680" y="2746800"/>
            <a:ext cx="4752720" cy="703440"/>
          </a:xfrm>
          <a:prstGeom prst="rect">
            <a:avLst/>
          </a:prstGeom>
          <a:solidFill>
            <a:srgbClr val="ffffff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PRESCRIBE"/>
              </a:rPr>
              <a:t>Zwischenberic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5A0A-AA25-426F-9281-F9A14B424D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Vielen Dank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AB78-D97F-4F1E-B58D-8B7F106721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nlag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6CA4-68A8-4AA7-B9B4-F47D8844DF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Handlungsperspektive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.. sind gedacht als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Empfehlungen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Gesamtkonferen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chulleit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achkonferenz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C-Bewirtschaftungsausschu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aushaltsausschu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7201080" y="1171440"/>
            <a:ext cx="433080" cy="433440"/>
          </a:xfrm>
          <a:custGeom>
            <a:avLst/>
            <a:gdLst>
              <a:gd name="textAreaLeft" fmla="*/ 28080 w 433080"/>
              <a:gd name="textAreaRight" fmla="*/ 405000 w 433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57FF-6379-4C73-B4F9-122A233358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Grenzwerte EMS bei 2,4 GH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62000" y="1905120"/>
          <a:ext cx="7238880" cy="37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905120"/>
                    <a:ext cx="7238880" cy="37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7848720" y="5486400"/>
            <a:ext cx="433440" cy="43344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86E9-FF8F-4A93-A6C8-233F6CC242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lternative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">
            <a:hlinkClick r:id="" action="ppaction://hlinkshowjump?jump=previousslide"/>
          </p:cNvPr>
          <p:cNvSpPr/>
          <p:nvPr/>
        </p:nvSpPr>
        <p:spPr>
          <a:xfrm>
            <a:off x="8381880" y="5791320"/>
            <a:ext cx="433440" cy="43344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28600" y="1676520"/>
          <a:ext cx="8593200" cy="40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93200" cy="40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F321-281C-4733-B519-4CA4C5AC36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rbeitsgruppe Funk-Netzwerk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Joachim Bro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tlef Gies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im Han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Uli Kasta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tefanie Rück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orst Totter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C54-8B59-4085-8199-41F187661A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Arbeitsgruppe Funk-Netzwerk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6197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ntlastung der Gesamtkonferen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egner und Befürworter von Funk-Netzwerken arbeiten gemeins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lektrosmog-Diskussion aufnehmen und entschärf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formationen recherchieren und bewer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Handlungsperspektiven aufzeigen 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ITC Zapf Dingbats"/>
                <a:ea typeface="ITC Zapf Dingbats"/>
                <a:hlinkClick r:id="rId1" action="ppaction://hlinksldjump"/>
              </a:rPr>
              <a:t>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205740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Motivation, Zie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3F89-57CD-46F1-BDE9-55BC1CBEB0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Synonym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reless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reless Local Area Network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abelloses Netz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atenübertragung per Funk im Frequenzbereich 2,4 G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Funk-Netzwerk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app_030_grfx1" descr=""/>
          <p:cNvPicPr/>
          <p:nvPr/>
        </p:nvPicPr>
        <p:blipFill>
          <a:blip r:embed="rId1"/>
          <a:stretch/>
        </p:blipFill>
        <p:spPr>
          <a:xfrm>
            <a:off x="5791320" y="914400"/>
            <a:ext cx="2789280" cy="268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7032-71BC-44BD-AAB6-8F17297581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WLAN an der BBS Win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W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Naturwissenschaftliche Fachräu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 22 - Physi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 24 - Biolog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 26 - Chem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B47A-A300-4439-8830-D0D858A294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WLAN an der BBS Win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Waru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egenüber festen Netzwerkanschlüssen geringerer Installationsaufwand bzw. Kos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LAN war 2002 Voraussetzung zur Bewilligung von Fördergeld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chnurloser Betrieb ermöglicht mobile und flexible Nutzung von PCs (Notebooks), keine Stolpergefahr, verschiedene Sitzordnungen mögl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48D6-F455-4B1F-A3EB-5504FE3FCF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WLAN an der BBS Win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Einwän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lektromagnetische Verträglichkeit ungeklärt 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ITC Zapf Dingbats"/>
                <a:ea typeface="ITC Zapf Dingbats"/>
                <a:hlinkClick r:id="rId1" action="ppaction://hlinksldjump"/>
              </a:rPr>
              <a:t>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icherheitsmaßnahmen zeitaufwendig, z.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lassen ausgewählter Nutzer bzw. P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erschlüsselung der Da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egenüber festen Netzwerkanschlüssen geringere Bandbreite und Stabilitä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8F98-5012-4AC8-8882-3FF320862C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Empfehlu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Kurzfristige Maßnah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eine weitere Ausstattung mit W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Rückbau der vorhandenen Access-Points in den Naturwissenschaften auf eine mobile Einhe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nschaffung von Messgeräten für verschiedener Frequenzbereiche hochfrequenter Strahlu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855-0A89-41BF-9E4E-92FBAE270A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Empfehlu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Mittelfristige Maßnah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rfassung und Bewertung elektro-magnetischer Strahlungsquellen an der BBS Win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Mögliche Konsequenz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rsatz von WLAN durch Festnetz? </a:t>
            </a:r>
            <a:r>
              <a:rPr b="0" lang="de-DE" sz="3200" spc="-1" strike="noStrike" u="sng">
                <a:solidFill>
                  <a:srgbClr val="33ccff"/>
                </a:solidFill>
                <a:uFillTx/>
                <a:latin typeface="ITC Zapf Dingbats"/>
                <a:ea typeface="ITC Zapf Dingbats"/>
                <a:hlinkClick r:id="rId1" action="ppaction://hlinksldjump"/>
              </a:rPr>
              <a:t>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erbot von Handys und Funktelefon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CE7B-BCE5-4266-A74C-14DFCE3DDF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13:55:57Z</dcterms:created>
  <dc:creator>a</dc:creator>
  <dc:description/>
  <dc:language>en-US</dc:language>
  <cp:lastModifiedBy>a</cp:lastModifiedBy>
  <dcterms:modified xsi:type="dcterms:W3CDTF">2007-02-01T08:32:27Z</dcterms:modified>
  <cp:revision>38</cp:revision>
  <dc:subject/>
  <dc:title>WLAN an der BBS Winsen</dc:title>
</cp:coreProperties>
</file>